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3472E-BC95-4A77-AEE2-820071F5B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9B00E-CF5D-493C-8678-2202BF6EC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D48E0-CD10-4256-8E1E-A8A3FAD26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01E2C-B815-450D-9508-BCAEBD029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E8111-57D6-44B7-82AE-BAD72A444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F17F1-E39A-4F71-AF71-2A8BD805F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D7E8D-0273-4AA7-A2A8-7AB311927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866A2-20BA-46EE-B025-A6AD6D30E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51138-4DE3-4DCF-8D1B-D4D16BC01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39687-57B9-4C40-83FC-888FE500C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CC233-8D9E-4133-A919-565B04B9C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B896D-3406-4A85-BCC2-89F5FFF9C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31AD0-DF02-44EC-8DBD-AF71EFF1F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CB163-EBA4-4576-B8B9-4634FDD6D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76A89-F4B4-44E4-B799-B439BC070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D2311-560F-4692-8A96-5BE4AF11D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6AE0F-82DB-4691-B6EA-F9FDBBFAA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A1259F-ABC9-42F4-90DF-752D8C2F9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3485E3-DC28-41B6-9BE2-C0D732F44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634FB3-1F89-4B6A-AB98-917A89A36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8989A0-4E56-41DA-B538-6785624BF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479171-0E66-4188-8EB2-CFA8EEA0F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54241-3954-4B8C-A28C-9E99A188F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BC5145-3B15-41B4-9BFC-C9A8A6F5D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4FF8C9-92EF-4E39-81C9-B457FEF79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26D89D-5C49-4B5E-8E94-C30173983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C4AC40-B29F-4278-B187-FE5C0C8B1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9B4678-03DA-4812-A88D-3C0621141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60D30F-922A-4EF3-B87F-7EBE334B8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00F947-BCC9-4E5C-91E5-68A3B9EAD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B9A988-1F40-4A47-BC70-7979A7A74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1910AD-D656-4C7B-9A91-D4B08C5DB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D57F86-CBBC-45CD-8C14-ABF60C8EA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DFBEA-F39F-49A1-B382-7F39CB124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6F31D4-0E4F-46B3-9432-A91DF0682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801D2C-8C3F-4B4B-A155-D68CAD7B8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2D720F-4CCA-4455-B1E2-327F5D236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0A8529-0A10-4B36-B017-58D30A53F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99AA85-E47C-4BCA-A535-3C3B04D2E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A0E830-3376-41FC-B992-0739F0A28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CD57B6-45F6-4F4D-B1DC-D5252F989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D49CFD-6333-4F1B-9F5A-DACEC111B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8F919E-A40A-472B-84E7-0478E0173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9E175-E6A3-4691-91CA-A1D0EEDEB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E2554-BDC4-4D22-A511-14C4C43B9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A1367-2057-49BD-917B-6B5E1E34E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2B170-F530-4726-BC36-56FCE83D2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696D4-E7B0-4754-B02E-E3089EEDC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D6372-A089-4DE8-955D-B771E6EBD0DA}" type="slidenum">
              <a:rPr b="0" lang="en-GB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41833-4702-478B-BC8E-92B0A5A5FB5F}" type="slidenum">
              <a:rPr b="0" lang="en-GB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43530-D871-4F31-AA90-753D3B8BCD7B}" type="slidenum">
              <a:rPr b="0" lang="en-GB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F0973-B342-4C49-9779-34982672E8AF}" type="slidenum">
              <a:rPr b="0" lang="en-GB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0" lang="en-GB" sz="5000" spc="-1" strike="noStrike">
                <a:solidFill>
                  <a:srgbClr val="04617b"/>
                </a:solidFill>
                <a:latin typeface="Calibri"/>
              </a:rPr>
              <a:t>Comenius Regio Projec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72880">
              <a:lnSpc>
                <a:spcPct val="2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en-GB" sz="2600" spc="-1" strike="noStrike">
                <a:solidFill>
                  <a:srgbClr val="0f6fc6"/>
                </a:solidFill>
                <a:latin typeface="Constantia"/>
              </a:rPr>
              <a:t>EUR-EMSET</a:t>
            </a: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: </a:t>
            </a:r>
            <a:r>
              <a:rPr b="0" lang="en-GB" sz="2600" spc="-1" strike="noStrike">
                <a:solidFill>
                  <a:srgbClr val="0f6fc6"/>
                </a:solidFill>
                <a:latin typeface="Constantia"/>
              </a:rPr>
              <a:t>Excellence in mathematics and the natural sciences, environmental education and technology: a European approach to enquiry-based learning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4617b"/>
                </a:solidFill>
                <a:latin typeface="Calibri"/>
              </a:rPr>
              <a:t>Both partner Local Authorities </a:t>
            </a:r>
            <a:br>
              <a:rPr sz="3600"/>
            </a:br>
            <a:r>
              <a:rPr b="0" lang="en-GB" sz="3600" spc="-1" strike="noStrike">
                <a:solidFill>
                  <a:srgbClr val="04617b"/>
                </a:solidFill>
                <a:latin typeface="Calibri"/>
              </a:rPr>
              <a:t>have identified: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9dd9"/>
                </a:solidFill>
                <a:latin typeface="Constantia"/>
              </a:rPr>
              <a:t>a need to improve the quality of education in mathematics and the natural sciences – and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9dd9"/>
                </a:solidFill>
                <a:latin typeface="Constantia"/>
              </a:rPr>
              <a:t>to increase the take-up of these subjects in upper secondary and higher education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9dd9"/>
                </a:solidFill>
                <a:latin typeface="Constantia"/>
              </a:rPr>
              <a:t>The project aims to achieve stimulating teaching and learning in science, maths and environmental education, through developing a </a:t>
            </a:r>
            <a:r>
              <a:rPr b="0" i="1" lang="en-GB" sz="2600" spc="-1" strike="noStrike">
                <a:solidFill>
                  <a:srgbClr val="009dd9"/>
                </a:solidFill>
                <a:latin typeface="Constantia"/>
              </a:rPr>
              <a:t>joint framework</a:t>
            </a:r>
            <a:r>
              <a:rPr b="0" lang="en-GB" sz="2600" spc="-1" strike="noStrike">
                <a:solidFill>
                  <a:srgbClr val="009dd9"/>
                </a:solidFill>
                <a:latin typeface="Constantia"/>
              </a:rPr>
              <a:t> for supporting…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856800" y="1928880"/>
            <a:ext cx="7372440" cy="439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GB" sz="2600" spc="-1" strike="noStrike">
                <a:solidFill>
                  <a:srgbClr val="009dd9"/>
                </a:solidFill>
                <a:latin typeface="Constantia"/>
              </a:rPr>
              <a:t>- student involvement in learning – taking into account their preferred modes of learning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9dd9"/>
                </a:solidFill>
                <a:latin typeface="Constantia"/>
              </a:rPr>
              <a:t> </a:t>
            </a:r>
            <a:r>
              <a:rPr b="0" lang="en-GB" sz="2600" spc="-1" strike="noStrike">
                <a:solidFill>
                  <a:srgbClr val="009dd9"/>
                </a:solidFill>
                <a:latin typeface="Constantia"/>
              </a:rPr>
              <a:t>- development of key competences – in particular in numeracy, science and technology, ICT and </a:t>
            </a:r>
            <a:r>
              <a:rPr b="0" i="1" lang="en-GB" sz="2600" spc="-1" strike="noStrike">
                <a:solidFill>
                  <a:srgbClr val="009dd9"/>
                </a:solidFill>
                <a:latin typeface="Constantia"/>
              </a:rPr>
              <a:t>learning to lear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9dd9"/>
                </a:solidFill>
                <a:latin typeface="Constantia"/>
              </a:rPr>
              <a:t> </a:t>
            </a:r>
            <a:r>
              <a:rPr b="0" lang="en-GB" sz="2600" spc="-1" strike="noStrike">
                <a:solidFill>
                  <a:srgbClr val="009dd9"/>
                </a:solidFill>
                <a:latin typeface="Constantia"/>
              </a:rPr>
              <a:t>- cross-curricular collaboration; shared learning activities between schools in the European partner countries – in particular through imaginative uses of ICT for shared investigation and communication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72880">
              <a:lnSpc>
                <a:spcPct val="15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9dd9"/>
                </a:solidFill>
                <a:latin typeface="Constantia"/>
              </a:rPr>
              <a:t>- joint projects with relevant community groups outside formal educa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9dd9"/>
                </a:solidFill>
                <a:latin typeface="Constantia"/>
              </a:rPr>
              <a:t>- joint methodological development involving Local Authority advisers and consultants, Higher Education establishments, teachers and support staff, community actors – and </a:t>
            </a:r>
            <a:r>
              <a:rPr b="0" i="1" lang="en-GB" sz="2600" spc="-1" strike="noStrike">
                <a:solidFill>
                  <a:srgbClr val="009dd9"/>
                </a:solidFill>
                <a:latin typeface="Constantia"/>
              </a:rPr>
              <a:t>students as co-constructors of learning</a:t>
            </a:r>
            <a:r>
              <a:rPr b="0" lang="en-GB" sz="2600" spc="-1" strike="noStrike">
                <a:solidFill>
                  <a:srgbClr val="009dd9"/>
                </a:solidFill>
                <a:latin typeface="Constantia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00008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0" lang="en-GB" sz="5000" spc="-1" strike="noStrike">
                <a:solidFill>
                  <a:srgbClr val="04617b"/>
                </a:solidFill>
                <a:latin typeface="Calibri"/>
              </a:rPr>
              <a:t>The main focus will be on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9dd9"/>
                </a:solidFill>
                <a:latin typeface="Constantia"/>
              </a:rPr>
              <a:t>developing collaborative, competence-focused approaches to teaching and learning in the natural scienc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9dd9"/>
                </a:solidFill>
                <a:latin typeface="Constantia"/>
              </a:rPr>
              <a:t>raising the motivation of students in lower secondary educa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9dd9"/>
                </a:solidFill>
                <a:latin typeface="Constantia"/>
              </a:rPr>
              <a:t>increasing the proportion of students opting to study the natural sciences in upper secondary and higher educa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9dd9"/>
                </a:solidFill>
                <a:latin typeface="Constantia"/>
              </a:rPr>
              <a:t>providing alternative ways of learning relevant to disaffected learners and those at risk of school failure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0" lang="en-GB" sz="3600" spc="-1" strike="noStrike">
                <a:solidFill>
                  <a:srgbClr val="04617b"/>
                </a:solidFill>
                <a:latin typeface="Calibri"/>
              </a:rPr>
              <a:t>Work Programme - Gloucestershire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9dd9"/>
                </a:solidFill>
                <a:latin typeface="Constantia"/>
              </a:rPr>
              <a:t>A </a:t>
            </a:r>
            <a:r>
              <a:rPr b="0" i="1" lang="en-GB" sz="2600" spc="-1" strike="noStrike">
                <a:solidFill>
                  <a:srgbClr val="009dd9"/>
                </a:solidFill>
                <a:latin typeface="Constantia"/>
              </a:rPr>
              <a:t>Joint Project Management Group (JPMG)</a:t>
            </a:r>
            <a:r>
              <a:rPr b="0" lang="en-GB" sz="2600" spc="-1" strike="noStrike">
                <a:solidFill>
                  <a:srgbClr val="009dd9"/>
                </a:solidFill>
                <a:latin typeface="Constantia"/>
              </a:rPr>
              <a:t> will be established, including the Project Co-ordinator (Martina Pilling – City of Västerås), the GCC Project Manager (Mary Wormington - GCC), the Project Consultants (Penny Krucker and Martin Whittle), a representative of each partner organisation, and a teacher from each of the participating schools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dd9"/>
                </a:solidFill>
                <a:latin typeface="Constantia"/>
              </a:rPr>
              <a:t>Meets at trans-national project meetings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dd9"/>
                </a:solidFill>
                <a:latin typeface="Constantia"/>
              </a:rPr>
              <a:t>Oct 3-7 2009 in </a:t>
            </a:r>
            <a:r>
              <a:rPr b="0" lang="en-GB" sz="2600" spc="-1" strike="noStrike">
                <a:solidFill>
                  <a:srgbClr val="009dd9"/>
                </a:solidFill>
                <a:latin typeface="Constantia"/>
              </a:rPr>
              <a:t>Västerå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dd9"/>
                </a:solidFill>
                <a:latin typeface="Constantia"/>
              </a:rPr>
              <a:t>Feb 6-10 2010 in Gloucester(now to be negotiated!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4617b"/>
                </a:solidFill>
                <a:latin typeface="Calibri"/>
              </a:rPr>
              <a:t>Next steps…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714320"/>
            <a:ext cx="8229600" cy="460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dd9"/>
                </a:solidFill>
                <a:latin typeface="Constantia"/>
              </a:rPr>
              <a:t>Setting up of </a:t>
            </a:r>
            <a:r>
              <a:rPr b="0" i="1" lang="en-US" sz="2600" spc="-1" strike="noStrike">
                <a:solidFill>
                  <a:srgbClr val="009dd9"/>
                </a:solidFill>
                <a:latin typeface="Constantia"/>
              </a:rPr>
              <a:t>Project Steering Groups (PSG)</a:t>
            </a:r>
            <a:r>
              <a:rPr b="0" lang="en-US" sz="2600" spc="-1" strike="noStrike">
                <a:solidFill>
                  <a:srgbClr val="009dd9"/>
                </a:solidFill>
                <a:latin typeface="Constantia"/>
              </a:rPr>
              <a:t> in SE and UK of  partner representatives, with teachers of Ma,Sc,Envir,Tech – together with  students from partner schools. Meet once per term and report to </a:t>
            </a:r>
            <a:r>
              <a:rPr b="0" i="1" lang="en-US" sz="2600" spc="-1" strike="noStrike">
                <a:solidFill>
                  <a:srgbClr val="009dd9"/>
                </a:solidFill>
                <a:latin typeface="Constantia"/>
              </a:rPr>
              <a:t>JPMG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dd9"/>
                </a:solidFill>
                <a:latin typeface="Constantia"/>
              </a:rPr>
              <a:t>Setting up of WIKI -  </a:t>
            </a:r>
            <a:r>
              <a:rPr b="0" i="1" lang="en-US" sz="2600" spc="-1" strike="noStrike">
                <a:solidFill>
                  <a:srgbClr val="009dd9"/>
                </a:solidFill>
                <a:latin typeface="Constantia"/>
              </a:rPr>
              <a:t>Virtual Learning Environment (VLE)</a:t>
            </a:r>
            <a:r>
              <a:rPr b="0" lang="en-US" sz="2600" spc="-1" strike="noStrike">
                <a:solidFill>
                  <a:srgbClr val="009dd9"/>
                </a:solidFill>
                <a:latin typeface="Constantia"/>
              </a:rPr>
              <a:t> within the project - Trevor Davies - University of Reading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dd9"/>
                </a:solidFill>
                <a:latin typeface="Constantia"/>
              </a:rPr>
              <a:t>System set up.  </a:t>
            </a:r>
            <a:r>
              <a:rPr b="1" lang="en-US" sz="2600" spc="-1" strike="noStrike">
                <a:solidFill>
                  <a:srgbClr val="009dd9"/>
                </a:solidFill>
                <a:latin typeface="Constantia"/>
              </a:rPr>
              <a:t>All partners to log onto system.</a:t>
            </a:r>
            <a:r>
              <a:rPr b="0" lang="en-US" sz="2600" spc="-1" strike="noStrike">
                <a:solidFill>
                  <a:srgbClr val="009dd9"/>
                </a:solidFill>
                <a:latin typeface="Constantia"/>
              </a:rPr>
              <a:t>  Trevor Davies to attend January meeting to fully explain procedures/potentia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509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0" lang="en-GB" sz="3600" spc="-1" strike="noStrike">
                <a:solidFill>
                  <a:srgbClr val="04617b"/>
                </a:solidFill>
                <a:latin typeface="Calibri"/>
              </a:rPr>
              <a:t>Project partners (Västerås)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28760" y="1213920"/>
            <a:ext cx="8229600" cy="467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dd9"/>
                </a:solidFill>
                <a:latin typeface="Constantia"/>
              </a:rPr>
              <a:t>Västerås Stad – Conny Ström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dd9"/>
                </a:solidFill>
                <a:latin typeface="Constantia"/>
              </a:rPr>
              <a:t>proAros – Martina Pilling, Helena Lilja,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dd9"/>
                </a:solidFill>
                <a:latin typeface="Constantia"/>
              </a:rPr>
              <a:t>           </a:t>
            </a:r>
            <a:r>
              <a:rPr b="0" lang="en-GB" sz="2000" spc="-1" strike="noStrike">
                <a:solidFill>
                  <a:srgbClr val="009dd9"/>
                </a:solidFill>
                <a:latin typeface="Constantia"/>
              </a:rPr>
              <a:t>Askövikens Naturskola – Christer Svensk, Bodil Lövgren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dd9"/>
                </a:solidFill>
                <a:latin typeface="Constantia"/>
              </a:rPr>
              <a:t>ABB – Lena Eliasson (Personnel Manager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dd9"/>
                </a:solidFill>
                <a:latin typeface="Constantia"/>
              </a:rPr>
              <a:t>Mälardalens Högskola – Margareta Enghag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dd9"/>
                </a:solidFill>
                <a:latin typeface="Constantia"/>
              </a:rPr>
              <a:t>Västmanlands Kommuner och Landsting – Ove Svenson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dd9"/>
                </a:solidFill>
                <a:latin typeface="Constantia"/>
              </a:rPr>
              <a:t>Mediecenter Mälardalen AB – Mats Persson Holm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dd9"/>
                </a:solidFill>
                <a:latin typeface="Constantia"/>
              </a:rPr>
              <a:t>Vafabmiljö – Britt-Inger Olsson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dd9"/>
                </a:solidFill>
                <a:latin typeface="Constantia"/>
              </a:rPr>
              <a:t>Lindboskolan – Christer Hansson (Headteacher), Kajsa Källberg, Christer Andersson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dd9"/>
                </a:solidFill>
                <a:latin typeface="Constantia"/>
              </a:rPr>
              <a:t>St Ilianskolan – Peter Johansson and Eva Johansson (Headteachers), Martina Kulläng, Alexandra D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dd9"/>
                </a:solidFill>
                <a:latin typeface="Constantia"/>
              </a:rPr>
              <a:t>Rönnbyskolan – Anneli Alesson (Headteacher), Carina Björklund, Maria Larsson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523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0" lang="en-GB" sz="3600" spc="-1" strike="noStrike">
                <a:solidFill>
                  <a:srgbClr val="04617b"/>
                </a:solidFill>
                <a:latin typeface="Calibri"/>
              </a:rPr>
              <a:t>Project partners (Gloucestershire)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28760" y="1356840"/>
            <a:ext cx="82296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dd9"/>
                </a:solidFill>
                <a:latin typeface="Constantia"/>
              </a:rPr>
              <a:t>Gloucestershire International Education Office - Mary Wormington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dd9"/>
                </a:solidFill>
                <a:latin typeface="Constantia"/>
              </a:rPr>
              <a:t>    </a:t>
            </a:r>
            <a:r>
              <a:rPr b="0" lang="en-GB" sz="2000" spc="-1" strike="noStrike">
                <a:solidFill>
                  <a:srgbClr val="009dd9"/>
                </a:solidFill>
                <a:latin typeface="Constantia"/>
              </a:rPr>
              <a:t>(European Information Manager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dd9"/>
                </a:solidFill>
                <a:latin typeface="Constantia"/>
              </a:rPr>
              <a:t>Science Manager, GCC- Alex Fleming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dd9"/>
                </a:solidFill>
                <a:latin typeface="Constantia"/>
              </a:rPr>
              <a:t>Maths Manager, GCC - Steve Lomax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dd9"/>
                </a:solidFill>
                <a:latin typeface="Constantia"/>
              </a:rPr>
              <a:t>University of Gloucestershire – Jane Moor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dd9"/>
                </a:solidFill>
                <a:latin typeface="Constantia"/>
              </a:rPr>
              <a:t>Gloucestershire First - Sue Stoner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dd9"/>
                </a:solidFill>
                <a:latin typeface="Constantia"/>
              </a:rPr>
              <a:t>The Wilderness Centre – Sally Morley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dd9"/>
                </a:solidFill>
                <a:latin typeface="Constantia"/>
              </a:rPr>
              <a:t>Forest Education Business Partnership - Andy Robertson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dd9"/>
                </a:solidFill>
                <a:latin typeface="Constantia"/>
              </a:rPr>
              <a:t>STEMworks – Ed White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dd9"/>
                </a:solidFill>
                <a:latin typeface="Constantia"/>
              </a:rPr>
              <a:t>Real Ideas Organisation - Richard Martin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dd9"/>
                </a:solidFill>
                <a:latin typeface="Constantia"/>
              </a:rPr>
              <a:t>Wyedean School - Elaine Turner - Head of Math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dd9"/>
                </a:solidFill>
                <a:latin typeface="Constantia"/>
              </a:rPr>
              <a:t>Cirencester Deer Park School - Gail Stevens, Head of Math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dd9"/>
                </a:solidFill>
                <a:latin typeface="Constantia"/>
              </a:rPr>
              <a:t>Bussage C of E Primary School – Greg Bastow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dd9"/>
                </a:solidFill>
                <a:latin typeface="Constantia"/>
              </a:rPr>
              <a:t>Project Consultants - Penny Krucker, Martin Whittle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4T05:57:41Z</dcterms:created>
  <dc:creator> </dc:creator>
  <dc:description/>
  <dc:language>en-US</dc:language>
  <cp:lastModifiedBy> </cp:lastModifiedBy>
  <dcterms:modified xsi:type="dcterms:W3CDTF">2009-10-04T08:32:50Z</dcterms:modified>
  <cp:revision>13</cp:revision>
  <dc:subject/>
  <dc:title> Comenius Regio Project</dc:title>
</cp:coreProperties>
</file>